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8AF-58B8-4E91-A262-B5121E47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246-3EA8-4AF0-8941-03B22D13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FE7-0651-42E1-A442-EE65E6BC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9F7-59FD-465C-A4B4-7745C7F9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D00-9F0E-4B3E-86A2-CF6E5231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094-1AE3-4F0E-B42B-84FC2814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539-ABD7-489E-9474-737F2CA5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40F-4E66-4C69-92D0-1B89BB1F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E39-A158-4298-AC97-4B5C3E7D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191-6275-4034-BC5A-2BC1F67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E6F-A816-4A29-8C14-1AE6693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65A-1810-427F-B637-6DD8186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B726-9A39-422E-A644-CEBFBECE0AD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219320" y="5867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77400" y="1484280"/>
            <a:ext cx="75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OLLERANZE GEOMETR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51280" y="2205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4360" y="549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lleranze di forma – Tolleranza di circola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377"/>
          <p:cNvPicPr/>
          <p:nvPr/>
        </p:nvPicPr>
        <p:blipFill>
          <a:blip r:embed="rId1"/>
          <a:stretch/>
        </p:blipFill>
        <p:spPr>
          <a:xfrm>
            <a:off x="3348000" y="1341360"/>
            <a:ext cx="5796000" cy="5194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24000" y="1628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ha quando le sezioni di un elemento a simmetria circolare risultano ovali, ellittiche, irrego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378_1"/>
          <p:cNvPicPr/>
          <p:nvPr/>
        </p:nvPicPr>
        <p:blipFill>
          <a:blip r:embed="rId1"/>
          <a:stretch/>
        </p:blipFill>
        <p:spPr>
          <a:xfrm>
            <a:off x="1646280" y="1785960"/>
            <a:ext cx="5851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79280" y="692280"/>
            <a:ext cx="34927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feri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tum” in inglese, elemento geometrico di forma perfetta in base al quale si fissano caratteristiche dimensionali e geometriche degli elementi si da rendere la misur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univoca e ripet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367"/>
          <p:cNvPicPr/>
          <p:nvPr/>
        </p:nvPicPr>
        <p:blipFill>
          <a:blip r:embed="rId1"/>
          <a:stretch/>
        </p:blipFill>
        <p:spPr>
          <a:xfrm>
            <a:off x="371484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369"/>
          <p:cNvPicPr/>
          <p:nvPr/>
        </p:nvPicPr>
        <p:blipFill>
          <a:blip r:embed="rId1"/>
          <a:stretch/>
        </p:blipFill>
        <p:spPr>
          <a:xfrm>
            <a:off x="4222800" y="0"/>
            <a:ext cx="4921200" cy="6937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0" y="0"/>
            <a:ext cx="4284720" cy="69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 riferimenti, di solito 3 piani ortogonali, non si trovano sul pez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iani ed assi, presi come riferimento, sono presenti sull’attrezzatura di riferimento (concetto di elemento di riferimento simula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edasi figura dove il simbolo di riferimento sta sia sulla superficie che sulla estensione della quota (elementi non dimension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70"/>
          <p:cNvPicPr/>
          <p:nvPr/>
        </p:nvPicPr>
        <p:blipFill>
          <a:blip r:embed="rId1"/>
          <a:stretch/>
        </p:blipFill>
        <p:spPr>
          <a:xfrm>
            <a:off x="4211640" y="0"/>
            <a:ext cx="4737240" cy="6624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57120" y="1857240"/>
            <a:ext cx="35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differenza della precedente immagine qui i riferimenti sono posti su elementi dimensionabil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371"/>
          <p:cNvPicPr/>
          <p:nvPr/>
        </p:nvPicPr>
        <p:blipFill>
          <a:blip r:embed="rId1"/>
          <a:stretch/>
        </p:blipFill>
        <p:spPr>
          <a:xfrm>
            <a:off x="1000080" y="857160"/>
            <a:ext cx="687708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50920" y="333360"/>
            <a:ext cx="7993080" cy="58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ferimenti par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tilizzati per forme complesse o irregolari qu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 Solo una porzione di superficie dell’elemento è funz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 La superficie irregolare non permette l’uso di superfici piane o regolari come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pezzo puà oscillare se posizionato con una sua superfici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dasi Disegno Tecnico Industriale, cons. Nettuno, pp. 371-3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84360" y="549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lleranze di forma – Tolleranza di rettiline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374_1"/>
          <p:cNvPicPr/>
          <p:nvPr/>
        </p:nvPicPr>
        <p:blipFill>
          <a:blip r:embed="rId1"/>
          <a:stretch/>
        </p:blipFill>
        <p:spPr>
          <a:xfrm>
            <a:off x="1979640" y="1197000"/>
            <a:ext cx="5022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75"/>
          <p:cNvPicPr/>
          <p:nvPr/>
        </p:nvPicPr>
        <p:blipFill>
          <a:blip r:embed="rId1"/>
          <a:stretch/>
        </p:blipFill>
        <p:spPr>
          <a:xfrm>
            <a:off x="4073400" y="0"/>
            <a:ext cx="5070600" cy="6699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14200" y="404640"/>
            <a:ext cx="3205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lleranza di rettilineità a MMC con valor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l’elemento è al MM non sono consentiti errori di forma (fig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14200" y="3214800"/>
            <a:ext cx="34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l’errore di rettilineità è elevato e le dimensioni dell’elemento si avvicinano a LMC è possibile aggiungere un valore massimo (fig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4360" y="549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lleranze di forma – Tolleranza di plana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376"/>
          <p:cNvPicPr/>
          <p:nvPr/>
        </p:nvPicPr>
        <p:blipFill>
          <a:blip r:embed="rId1"/>
          <a:stretch/>
        </p:blipFill>
        <p:spPr>
          <a:xfrm>
            <a:off x="3419640" y="1484280"/>
            <a:ext cx="5724360" cy="462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24000" y="1628640"/>
            <a:ext cx="259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è possibile applicare il MMC ad una tolleranza di planarità poiché la tolleranza di forma controlla tutti i punti della superficie, elemento non dimensiona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07:20Z</dcterms:created>
  <dc:creator>Arc</dc:creator>
  <dc:description/>
  <dc:language>en-US</dc:language>
  <cp:lastModifiedBy>Segreteria IPMM07</cp:lastModifiedBy>
  <dcterms:modified xsi:type="dcterms:W3CDTF">2008-04-15T10:48:40Z</dcterms:modified>
  <cp:revision>3</cp:revision>
  <dc:subject/>
  <dc:title>Diapositiva 1</dc:title>
</cp:coreProperties>
</file>